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B2B2-FE9E-4FF2-8294-3F824A345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D71F-2478-4749-9C8D-677CA9FE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8859-2A23-4492-8A7C-9BF36E06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431C-0A19-459B-8D7B-0C60182D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EA78-6650-41F6-9926-1D83A129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17B3-F717-4A91-8508-5486BEBC4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00AC-4EA6-4A1F-A839-A46F9537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965D-3A16-4877-870E-76C4AA9A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A156-C9AB-468E-9C8C-70400364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25A7-C9B4-44F5-B2C3-9959CBD0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AECF-1D82-4BF7-A82D-3AF9C17F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EB8F-8459-45BA-8068-AB3D50E4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5734-40C1-4813-A6B2-32F8247E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Organized Labor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Organized Labor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912960" y="182736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problems that workers faced in the late 180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the goals and strategies of different labor organiz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causes and effects of strik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715000" y="2286000"/>
            <a:ext cx="312408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ajor strike of railroad workers in 1877 resulted in the federal government sending in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troops to restore ord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8"/>
          <p:cNvSpPr/>
          <p:nvPr/>
        </p:nvSpPr>
        <p:spPr>
          <a:xfrm flipH="1" rot="5400000">
            <a:off x="990360" y="1142640"/>
            <a:ext cx="4114800" cy="5029200"/>
          </a:xfrm>
          <a:prstGeom prst="upArrowCallout">
            <a:avLst>
              <a:gd name="adj1" fmla="val 25002"/>
              <a:gd name="adj2" fmla="val 22338"/>
              <a:gd name="adj3" fmla="val 21643"/>
              <a:gd name="adj4" fmla="val 53908"/>
            </a:avLst>
          </a:prstGeom>
          <a:gradFill rotWithShape="0">
            <a:gsLst>
              <a:gs pos="0">
                <a:srgbClr val="cef8fe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333399"/>
            </a:solidFill>
            <a:miter/>
          </a:ln>
          <a:effectLst>
            <a:outerShdw dist="63504" dir="3183908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914400" y="1719360"/>
            <a:ext cx="2971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membership in unions grew in the 1870s, a wave of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confrontations between labor and manage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ocked the count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6"/>
          <p:cNvSpPr/>
          <p:nvPr/>
        </p:nvSpPr>
        <p:spPr>
          <a:xfrm>
            <a:off x="5999040" y="2544840"/>
            <a:ext cx="2592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1886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aymarket Ri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Americans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wary of labor un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20" descr="HSUS_ch13_s3_StrikeFight"/>
          <p:cNvPicPr/>
          <p:nvPr/>
        </p:nvPicPr>
        <p:blipFill>
          <a:blip r:embed="rId1"/>
          <a:stretch/>
        </p:blipFill>
        <p:spPr>
          <a:xfrm>
            <a:off x="590400" y="2362320"/>
            <a:ext cx="5286600" cy="3514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476280" y="1371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ross the nation, workers mounted demonstrations for more rights. One such protest in Chicago turned viol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2"/>
          <p:cNvSpPr/>
          <p:nvPr/>
        </p:nvSpPr>
        <p:spPr>
          <a:xfrm>
            <a:off x="952560" y="13716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et another conflict broke out with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mestead Strik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Troops were called in to quell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fighting between workers and Carnegie Ste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9"/>
          <p:cNvSpPr/>
          <p:nvPr/>
        </p:nvSpPr>
        <p:spPr>
          <a:xfrm flipV="1" rot="5400000">
            <a:off x="4209840" y="264996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3399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952560" y="335592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year later, the Pullman Palace Car Company laid off rail workers and cut w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952560" y="493704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touched of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ullman Strik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halted nationwide railroad traff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mail delive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24"/>
          <p:cNvSpPr/>
          <p:nvPr/>
        </p:nvSpPr>
        <p:spPr>
          <a:xfrm flipV="1" rot="5400000">
            <a:off x="4209840" y="43056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7"/>
          <p:cNvSpPr/>
          <p:nvPr/>
        </p:nvSpPr>
        <p:spPr>
          <a:xfrm>
            <a:off x="704880" y="1295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vernment ordered strike organizers, l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ugene V. Deb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to end the strik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838080" y="5334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refused and was sent to jail.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Troops were called in to end the stri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24" descr="HSUS_ch13_s3_PullmanStrike"/>
          <p:cNvPicPr/>
          <p:nvPr/>
        </p:nvPicPr>
        <p:blipFill>
          <a:blip r:embed="rId1"/>
          <a:stretch/>
        </p:blipFill>
        <p:spPr>
          <a:xfrm>
            <a:off x="1319040" y="2209680"/>
            <a:ext cx="65059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0"/>
          <p:cNvSpPr/>
          <p:nvPr/>
        </p:nvSpPr>
        <p:spPr>
          <a:xfrm>
            <a:off x="1219320" y="1447920"/>
            <a:ext cx="670536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c5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600200"/>
          <a:ext cx="6096240" cy="4267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s on the Labor Mov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rs successfully appealed for 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court orders against union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act disputes and 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strikes continued to occu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s American industry grew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abor movement spli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to different factions. Debs helped organize the American Socialist Party and the IWW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912960" y="1676520"/>
            <a:ext cx="76197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weatshop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, hot, dark, and dirty workhou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any tow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mmunities near workplaces where housing was owned by the business and rented out to employ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llective bargain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gotiating as a group for higher wages or better working cond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conomic and political philosophy that favors public, instead of private, control of property and in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2960" y="1827000"/>
            <a:ext cx="769608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Knights of Labo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labor union that included workers of any trade, skilled or unski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erence V. Powderl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leader of the Knights of Labor beginning in 1881 who encouraged boycotts and negotiations with emplo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amuel Gomper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oor English immigrant wh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ed the AFL, a skilled workers union, in 18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F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n Federation of Labor, a loose organization of skilled workers from many unions devoted to specific crafts or t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aymarket Rio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labor protest in Chicago in 1886 that ended in dozens of deaths when someone threw a bo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mestead Strik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1892 Pennsylvania steelworkers’ strike that resulted in violence between company police and stri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ugene V. Deb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der of the American Railway Union who eventually became a Socia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Aft>
                <a:spcPts val="19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ullman Strik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ationwide strike in 1894 of rail workers that halted railroads and mail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1297080" y="16002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the rise of labor unions shape relations among workers, big business, and government?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297080" y="2971800"/>
            <a:ext cx="7008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booming American economy relied on workers, who began to rebel agains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ow pay and unsafe working condi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uggles between business owners and workers intensifi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6" descr="HSUS09_EQ_logoSmall"/>
          <p:cNvPicPr/>
          <p:nvPr/>
        </p:nvPicPr>
        <p:blipFill>
          <a:blip r:embed="rId1"/>
          <a:stretch/>
        </p:blipFill>
        <p:spPr>
          <a:xfrm>
            <a:off x="752400" y="17082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29"/>
          <p:cNvSpPr/>
          <p:nvPr/>
        </p:nvSpPr>
        <p:spPr>
          <a:xfrm>
            <a:off x="1143000" y="15238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strial workers faced hard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30"/>
          <p:cNvSpPr/>
          <p:nvPr/>
        </p:nvSpPr>
        <p:spPr>
          <a:xfrm>
            <a:off x="1143000" y="2209680"/>
            <a:ext cx="6553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tory owners employed people who woul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ork for low wag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ny of these people were immigra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often labored in dangerou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weatsh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orers often had to live i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any tow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buy goods at high interest at company s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9"/>
          <p:cNvSpPr/>
          <p:nvPr/>
        </p:nvSpPr>
        <p:spPr>
          <a:xfrm>
            <a:off x="5410080" y="144792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abor unions form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1"/>
          <p:cNvSpPr/>
          <p:nvPr/>
        </p:nvSpPr>
        <p:spPr>
          <a:xfrm>
            <a:off x="5410080" y="2362320"/>
            <a:ext cx="3353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ers tri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llective bargai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gain more power against employers. One form was the strike, in which workers stop work until their demands are me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6"/>
          <p:cNvSpPr/>
          <p:nvPr/>
        </p:nvSpPr>
        <p:spPr>
          <a:xfrm>
            <a:off x="762120" y="5424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ild laborers in 189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7" descr=""/>
          <p:cNvPicPr/>
          <p:nvPr/>
        </p:nvPicPr>
        <p:blipFill>
          <a:blip r:embed="rId1"/>
          <a:stretch/>
        </p:blipFill>
        <p:spPr>
          <a:xfrm>
            <a:off x="762120" y="1461960"/>
            <a:ext cx="4492440" cy="39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8"/>
          <p:cNvSpPr/>
          <p:nvPr/>
        </p:nvSpPr>
        <p:spPr>
          <a:xfrm>
            <a:off x="609480" y="1600200"/>
            <a:ext cx="8001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736640" y="1066680"/>
            <a:ext cx="59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abor Unions of the Late 1800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1828800"/>
          <a:ext cx="7543800" cy="4191120"/>
        </p:xfrm>
        <a:graphic>
          <a:graphicData uri="http://schemas.openxmlformats.org/drawingml/2006/table">
            <a:tbl>
              <a:tblPr/>
              <a:tblGrid>
                <a:gridCol w="3048120"/>
                <a:gridCol w="449568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 U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ustry and Ac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nights of Lab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ded all worker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om any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oted to broad social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merican Federation of Labor (AF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ded skilled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ed on specific worker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rican Railway Union (ARU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ded rail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7960" indent="-23796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ducted the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ullman Strik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f 1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9"/>
          <p:cNvSpPr/>
          <p:nvPr/>
        </p:nvSpPr>
        <p:spPr>
          <a:xfrm>
            <a:off x="990720" y="1755720"/>
            <a:ext cx="716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ovement call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read through Europe in the 183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held tha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ealth should be distributed equa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veryo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2362320" y="4359240"/>
            <a:ext cx="6248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st Americans rejected socialism, but some labor activists borrowed ideas from it to support social refor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1" descr="HSUS_s3_ch13_US-FlagWavy"/>
          <p:cNvPicPr/>
          <p:nvPr/>
        </p:nvPicPr>
        <p:blipFill>
          <a:blip r:embed="rId1"/>
          <a:stretch/>
        </p:blipFill>
        <p:spPr>
          <a:xfrm>
            <a:off x="914400" y="441972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7:37Z</dcterms:modified>
  <cp:revision>159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